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6.jpeg" ContentType="image/jpeg"/>
  <Override PartName="/ppt/media/chimes.wav" ContentType="audio/x-wav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15F0-757D-4BBC-A7EC-6E468CCA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8CA8-D8B3-48CA-B0BC-D984FA30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BC9-A695-4F6C-9FE9-CA245F3A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D7C5-4E8C-4D29-8DC3-E5F1A385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0306-7E43-4CE3-91FE-6FD2C080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0730-95C4-4F00-8960-03512A2F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9C41-BFDB-46F5-B5F0-D7AF04B7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8F84-BB45-47F4-95D4-FDA55C61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F49A-D35A-4C14-9B1E-9404EC23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E0A-4162-4D28-887F-21469AC8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A0B6-2B98-44D9-9C52-7BBC5088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B7F6-AD3C-4072-91F1-00A714FA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E4BE-34BC-4449-9466-F6C65080C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486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Garamond Premr Pro Smbd"/>
              </a:rPr>
              <a:t>Братья-мастера Изображения, Украшения и Постройки всегда работают вмес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62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296165"/>
                </a:solidFill>
                <a:latin typeface="Garamond Premr Pro Smbd"/>
              </a:rPr>
              <a:t>Бумажные ангел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08360" y="1341000"/>
            <a:ext cx="3384360" cy="4233960"/>
          </a:xfrm>
          <a:prstGeom prst="rect">
            <a:avLst/>
          </a:prstGeom>
          <a:noFill/>
          <a:ln cap="rnd" w="38160">
            <a:solidFill>
              <a:srgbClr val="296165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14f53"/>
                </a:solidFill>
                <a:latin typeface="Garamond Premr Pro Smbd"/>
              </a:rPr>
              <a:t>Задание: </a:t>
            </a:r>
            <a:r>
              <a:rPr b="0" lang="en-US" sz="3200" spc="-1" strike="noStrike">
                <a:solidFill>
                  <a:srgbClr val="214f53"/>
                </a:solidFill>
                <a:latin typeface="Garamond Premr Pro Smbd"/>
              </a:rPr>
              <a:t>симметричным вырезанием создать бумажную гирлянду с изображением ангелов</a:t>
            </a:r>
            <a:r>
              <a:rPr b="0" lang="en-US" sz="4000" spc="-1" strike="noStrike">
                <a:solidFill>
                  <a:srgbClr val="214f53"/>
                </a:solidFill>
                <a:latin typeface="Garamond Premr Pro Smbd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4610160" cy="6146640"/>
          </a:xfrm>
          <a:prstGeom prst="rect">
            <a:avLst/>
          </a:prstGeom>
          <a:ln cap="rnd" w="76320">
            <a:solidFill>
              <a:srgbClr val="296165"/>
            </a:solidFill>
            <a:custDash>
              <a:ds d="100000" sp="1000"/>
            </a:custDash>
            <a:miter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4f53"/>
                </a:solidFill>
                <a:latin typeface="Garamond Premr Pro Smbd"/>
              </a:rPr>
              <a:t>Белую полосу бумаги шириной 10 см складываем неширокой«гармошкой», проглажив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692360" y="2421000"/>
            <a:ext cx="5543640" cy="4046400"/>
          </a:xfrm>
          <a:prstGeom prst="rect">
            <a:avLst/>
          </a:prstGeom>
          <a:ln cap="rnd" w="76320">
            <a:solidFill>
              <a:srgbClr val="008080"/>
            </a:solidFill>
            <a:custDash>
              <a:ds d="100000" sp="1000"/>
            </a:custDash>
            <a:miter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4032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4f53"/>
                </a:solidFill>
                <a:latin typeface="Garamond Premr Pro Smbd"/>
              </a:rPr>
              <a:t>Получившийся прямоугольник располагаем по вертикали и простым карандашом изображаем на нём половинку ангела так, чтобы « руки» и низ туники были смыкающими, т.е. при вырезании не обрез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435640" y="333360"/>
            <a:ext cx="2344680" cy="6319800"/>
          </a:xfrm>
          <a:prstGeom prst="rect">
            <a:avLst/>
          </a:prstGeom>
          <a:ln cap="rnd" w="76320">
            <a:solidFill>
              <a:srgbClr val="296165"/>
            </a:solidFill>
            <a:custDash>
              <a:ds d="100000" sp="1000"/>
            </a:custDash>
            <a:miter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63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14f53"/>
                </a:solidFill>
                <a:latin typeface="Garamond Premr Pro Smbd"/>
              </a:rPr>
              <a:t>Аккуратно вырезаем получившееся изображение, расправляем его, должно получиться 4 держащихся друг за друга силуэта анге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11280" y="2924280"/>
            <a:ext cx="8123040" cy="3303360"/>
          </a:xfrm>
          <a:prstGeom prst="rect">
            <a:avLst/>
          </a:prstGeom>
          <a:ln cap="rnd" w="76320">
            <a:solidFill>
              <a:srgbClr val="296165"/>
            </a:solidFill>
            <a:custDash>
              <a:ds d="100000" sp="1000"/>
            </a:custDash>
            <a:miter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148360" y="1341000"/>
            <a:ext cx="3744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14f53"/>
                </a:solidFill>
                <a:latin typeface="Garamond Premr Pro Smbd"/>
              </a:rPr>
              <a:t>Гирлянда из ангелов</a:t>
            </a:r>
            <a:r>
              <a:rPr b="0" lang="en-US" sz="4400" spc="-1" strike="noStrike">
                <a:solidFill>
                  <a:srgbClr val="214f53"/>
                </a:solidFill>
                <a:latin typeface="Garamond Premr Pro Smbd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214f53"/>
                </a:solidFill>
                <a:latin typeface="Garamond Premr Pro Smbd"/>
              </a:rPr>
              <a:t>своими руками готова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4610160" cy="6146640"/>
          </a:xfrm>
          <a:prstGeom prst="rect">
            <a:avLst/>
          </a:prstGeom>
          <a:ln cap="rnd" w="76320">
            <a:solidFill>
              <a:srgbClr val="296165"/>
            </a:solidFill>
            <a:custDash>
              <a:ds d="100000" sp="1000"/>
            </a:custDash>
            <a:miter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4f53"/>
                </a:solidFill>
                <a:latin typeface="Garamond Premr Pro Smbd"/>
              </a:rPr>
              <a:t>Рождественские укра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843280" y="1341360"/>
            <a:ext cx="3300480" cy="5040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940360" y="2421000"/>
            <a:ext cx="2852640" cy="3238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2997000" cy="351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62120" y="577800"/>
            <a:ext cx="7619760" cy="570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6335640" cy="4149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046840" y="3784680"/>
            <a:ext cx="4097160" cy="307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32000" y="476280"/>
            <a:ext cx="42116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14f53"/>
                </a:solidFill>
                <a:latin typeface="Garamond Premr Pro Smbd"/>
              </a:rPr>
              <a:t>Изображение ангелов на православных иконах</a:t>
            </a:r>
            <a:r>
              <a:rPr b="0" lang="ru-RU" sz="6000" spc="-1" strike="noStrike">
                <a:solidFill>
                  <a:srgbClr val="214f53"/>
                </a:solidFill>
                <a:latin typeface="Garamond Premr Pro Smbd"/>
              </a:rPr>
              <a:t> </a:t>
            </a:r>
            <a:br>
              <a:rPr sz="6000"/>
            </a:br>
            <a:br>
              <a:rPr sz="6000"/>
            </a:br>
            <a:r>
              <a:rPr b="0" lang="ru-RU" sz="4000" spc="-1" strike="noStrike">
                <a:solidFill>
                  <a:srgbClr val="214f53"/>
                </a:solidFill>
                <a:latin typeface="Garamond Premr Pro Smbd"/>
              </a:rPr>
              <a:t>«Благовещение</a:t>
            </a:r>
            <a:r>
              <a:rPr b="0" lang="ru-RU" sz="6000" spc="-1" strike="noStrike">
                <a:solidFill>
                  <a:srgbClr val="214f53"/>
                </a:solidFill>
                <a:latin typeface="Garamond Premr Pro Smbd"/>
              </a:rPr>
              <a:t>»</a:t>
            </a:r>
            <a:br>
              <a:rPr sz="6000"/>
            </a:br>
            <a:r>
              <a:rPr b="0" lang="ru-RU" sz="3200" spc="-1" strike="noStrike">
                <a:solidFill>
                  <a:srgbClr val="214f53"/>
                </a:solidFill>
                <a:latin typeface="Garamond Premr Pro Smbd"/>
              </a:rPr>
              <a:t>Автор</a:t>
            </a:r>
            <a:br>
              <a:rPr sz="3200"/>
            </a:br>
            <a:r>
              <a:rPr b="0" lang="ru-RU" sz="3200" spc="-1" strike="noStrike">
                <a:solidFill>
                  <a:srgbClr val="214f53"/>
                </a:solidFill>
                <a:latin typeface="Garamond Premr Pro Smbd"/>
              </a:rPr>
              <a:t> прп. Андрей Рублёв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324000" y="260280"/>
            <a:ext cx="4452840" cy="627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76720" y="274680"/>
            <a:ext cx="38880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14f53"/>
                </a:solidFill>
                <a:latin typeface="Garamond Premr Pro Smbd"/>
              </a:rPr>
              <a:t>Изображение ангелов на православных иконах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214f53"/>
                </a:solidFill>
                <a:latin typeface="Garamond Premr Pro Smbd"/>
              </a:rPr>
              <a:t> « Архистратиг Михаил» </a:t>
            </a:r>
            <a:br>
              <a:rPr sz="6000"/>
            </a:br>
            <a:br>
              <a:rPr sz="6000"/>
            </a:br>
            <a:r>
              <a:rPr b="0" lang="ru-RU" sz="3200" spc="-1" strike="noStrike">
                <a:solidFill>
                  <a:srgbClr val="214f53"/>
                </a:solidFill>
                <a:latin typeface="Garamond Premr Pro Smbd"/>
              </a:rPr>
              <a:t>Автор</a:t>
            </a:r>
            <a:br>
              <a:rPr sz="3200"/>
            </a:br>
            <a:r>
              <a:rPr b="0" lang="ru-RU" sz="3200" spc="-1" strike="noStrike">
                <a:solidFill>
                  <a:srgbClr val="214f53"/>
                </a:solidFill>
                <a:latin typeface="Garamond Premr Pro Smbd"/>
              </a:rPr>
              <a:t> прп. Андрей Рублё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>
            <a:lum bright="14000"/>
          </a:blip>
          <a:stretch/>
        </p:blipFill>
        <p:spPr>
          <a:xfrm>
            <a:off x="468360" y="189000"/>
            <a:ext cx="4248000" cy="641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56000" y="907560"/>
            <a:ext cx="388764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14f53"/>
                </a:solidFill>
                <a:latin typeface="Garamond Premr Pro Smbd"/>
              </a:rPr>
              <a:t>Изображение ангелов на православных иконах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214f53"/>
                </a:solidFill>
                <a:latin typeface="Garamond Premr Pro Smbd"/>
              </a:rPr>
              <a:t>« </a:t>
            </a:r>
            <a:r>
              <a:rPr b="0" lang="ru-RU" sz="4400" spc="-1" strike="noStrike">
                <a:solidFill>
                  <a:srgbClr val="214f53"/>
                </a:solidFill>
                <a:latin typeface="Garamond Premr Pro Smbd"/>
              </a:rPr>
              <a:t>Вознесение Господне</a:t>
            </a:r>
            <a:r>
              <a:rPr b="0" lang="ru-RU" sz="4000" spc="-1" strike="noStrike">
                <a:solidFill>
                  <a:srgbClr val="214f53"/>
                </a:solidFill>
                <a:latin typeface="Garamond Premr Pro Smbd"/>
              </a:rPr>
              <a:t>»</a:t>
            </a:r>
            <a:br>
              <a:rPr sz="4000"/>
            </a:br>
            <a:r>
              <a:rPr b="0" lang="ru-RU" sz="3200" spc="-1" strike="noStrike">
                <a:solidFill>
                  <a:srgbClr val="214f53"/>
                </a:solidFill>
                <a:latin typeface="Garamond Premr Pro Smbd"/>
              </a:rPr>
              <a:t>Автор</a:t>
            </a:r>
            <a:br>
              <a:rPr sz="3200"/>
            </a:br>
            <a:r>
              <a:rPr b="0" lang="ru-RU" sz="3200" spc="-1" strike="noStrike">
                <a:solidFill>
                  <a:srgbClr val="214f53"/>
                </a:solidFill>
                <a:latin typeface="Garamond Premr Pro Smbd"/>
              </a:rPr>
              <a:t> прп. Андрей Рублёв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489200" cy="640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6720" y="274680"/>
            <a:ext cx="3888000" cy="68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14f53"/>
                </a:solidFill>
                <a:latin typeface="Garamond Premr Pro Smbd"/>
              </a:rPr>
              <a:t>Изображение ангелов на православных иконах</a:t>
            </a:r>
            <a:br>
              <a:rPr sz="4000"/>
            </a:br>
            <a:br>
              <a:rPr sz="4000"/>
            </a:br>
            <a:r>
              <a:rPr b="0" lang="ru-RU" sz="4800" spc="-1" strike="noStrike">
                <a:solidFill>
                  <a:srgbClr val="214f53"/>
                </a:solidFill>
                <a:latin typeface="Garamond Premr Pro Smbd"/>
              </a:rPr>
              <a:t>« Троица»</a:t>
            </a:r>
            <a:br>
              <a:rPr sz="4000"/>
            </a:br>
            <a:r>
              <a:rPr b="0" lang="ru-RU" sz="3200" spc="-1" strike="noStrike">
                <a:solidFill>
                  <a:srgbClr val="214f53"/>
                </a:solidFill>
                <a:latin typeface="Garamond Premr Pro Smbd"/>
              </a:rPr>
              <a:t>Автор</a:t>
            </a:r>
            <a:br>
              <a:rPr sz="3200"/>
            </a:br>
            <a:r>
              <a:rPr b="0" lang="ru-RU" sz="3200" spc="-1" strike="noStrike">
                <a:solidFill>
                  <a:srgbClr val="214f53"/>
                </a:solidFill>
                <a:latin typeface="Garamond Premr Pro Smbd"/>
              </a:rPr>
              <a:t> прп. Андрей Рублёв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4626000" cy="576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14480">
            <a:solidFill>
              <a:srgbClr val="00ffff"/>
            </a:solidFill>
            <a:custDash>
              <a:ds d="100000" sp="1000"/>
            </a:custDash>
            <a:miter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14f53"/>
                </a:solidFill>
                <a:latin typeface="Garamond Premr Pro Smbd"/>
              </a:rPr>
              <a:t>Бумажные ангелы</a:t>
            </a:r>
            <a:r>
              <a:rPr b="0" lang="en-US" sz="4000" spc="-1" strike="noStrike">
                <a:solidFill>
                  <a:srgbClr val="214f53"/>
                </a:solidFill>
                <a:latin typeface="Garamond Premr Pro Smb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214f53"/>
                </a:solidFill>
                <a:latin typeface="Garamond Premr Pro Smbd"/>
              </a:rPr>
              <a:t>своими ру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234120" y="1557360"/>
            <a:ext cx="248112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3456000" cy="2743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708360" y="2809800"/>
            <a:ext cx="2671920" cy="404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09:43:54Z</dcterms:created>
  <dc:creator>Admin</dc:creator>
  <dc:description/>
  <dc:language>en-US</dc:language>
  <cp:lastModifiedBy>Admin</cp:lastModifiedBy>
  <dcterms:modified xsi:type="dcterms:W3CDTF">2010-12-12T18:36:42Z</dcterms:modified>
  <cp:revision>22</cp:revision>
  <dc:subject/>
  <dc:title>Слайд 1</dc:title>
</cp:coreProperties>
</file>